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3134-C842-4EED-91E8-B3214468A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7201-63C8-443C-A80B-C763FF11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2A39-7228-4C3C-B71D-B6D2B54E1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FDA9-E500-4E79-A82D-38CD7660F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8F22-F941-484E-887C-55AE8CD8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B01A-CDEA-4140-8E00-B8FED8F3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492C-F7C6-4B27-97D9-B5C681FE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3E5E-150C-42CE-9651-1D1D171E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977B-4756-40D3-95CC-389D645C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C4FB-49C2-4272-BC25-EB9DA51A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F957-2FD0-4B69-B113-6E561F34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B8FB-1815-4FEE-8F13-F4C6A500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5F48-C9F5-4F0D-8E8F-6D9F5E84A21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 Goats action pl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ly 20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(Mozambique t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ersion 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dience (community lead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600200"/>
          <a:ext cx="8229600" cy="4846680"/>
        </p:xfrm>
        <a:graphic>
          <a:graphicData uri="http://schemas.openxmlformats.org/drawingml/2006/table">
            <a:tbl>
              <a:tblPr/>
              <a:tblGrid>
                <a:gridCol w="3106800"/>
                <a:gridCol w="1079280"/>
                <a:gridCol w="936720"/>
                <a:gridCol w="31068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 </a:t>
                      </a: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produc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audien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o leads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y 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port needed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who could help perhaps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 information note on market location, date and Kg pric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 secretari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fore next f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om imGoats project staff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3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4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1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dience (local consu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00200"/>
          <a:ext cx="8229600" cy="4998960"/>
        </p:xfrm>
        <a:graphic>
          <a:graphicData uri="http://schemas.openxmlformats.org/drawingml/2006/table">
            <a:tbl>
              <a:tblPr/>
              <a:tblGrid>
                <a:gridCol w="3106800"/>
                <a:gridCol w="1079280"/>
                <a:gridCol w="936720"/>
                <a:gridCol w="31068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 </a:t>
                      </a: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produc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audien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o leads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y 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port needed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who could help perhaps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o pro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ber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October and Dece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support from Vitorino  (CAR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 study on consumer preferences – by stud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st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 Amo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nd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 Birg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2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1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dience (dono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8229600" cy="4424400"/>
        </p:xfrm>
        <a:graphic>
          <a:graphicData uri="http://schemas.openxmlformats.org/drawingml/2006/table">
            <a:tbl>
              <a:tblPr/>
              <a:tblGrid>
                <a:gridCol w="3106800"/>
                <a:gridCol w="1079280"/>
                <a:gridCol w="936720"/>
                <a:gridCol w="31068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 </a:t>
                      </a: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produc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audien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o leads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y 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port needed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who could help perhaps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ccess sto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chae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zira  for editing  - Comms for lay o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tsheet  base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rg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y end Jul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zira  for editing  - Comms for lay o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min fil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k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RI comms – local film crew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ct websi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zi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go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2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3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dience (private produc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600200"/>
          <a:ext cx="8229600" cy="4881600"/>
        </p:xfrm>
        <a:graphic>
          <a:graphicData uri="http://schemas.openxmlformats.org/drawingml/2006/table">
            <a:tbl>
              <a:tblPr/>
              <a:tblGrid>
                <a:gridCol w="3106800"/>
                <a:gridCol w="1079280"/>
                <a:gridCol w="936720"/>
                <a:gridCol w="31068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 </a:t>
                      </a: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produc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audien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o leads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y 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port needed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who could help perhaps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ular intera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chae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go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ite to 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 secretari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fore next f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chaela to ass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visits from producers to their far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ss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B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chaela to ass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hange of contact details with IP secretariat and private producer with improved bree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chae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2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3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dience (producers and model far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4664160"/>
        </p:xfrm>
        <a:graphic>
          <a:graphicData uri="http://schemas.openxmlformats.org/drawingml/2006/table">
            <a:tbl>
              <a:tblPr/>
              <a:tblGrid>
                <a:gridCol w="3106800"/>
                <a:gridCol w="1079280"/>
                <a:gridCol w="1297080"/>
                <a:gridCol w="27464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 </a:t>
                      </a: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produc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audien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o leads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y 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port needed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who could help perhaps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Four brochure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 : animal health, commercialization,  management  (e.g. comic incl. improved kraal and communal grazing areas) and IP iss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k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d of augu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cal support from CARE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phic desig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rgit for drawing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 module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 grazing areas and commercialization  to be added to existing training mater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ober (before refresher course of paravet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RI will make commercialization mod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E will make module on grazing areas, input from Msc student stu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hange visits between different produc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inue until end of pro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cal support depends on theme of exchange of experi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Radio message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produc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ber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august, October and Dece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support from Vitorino  (CAR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dience (Buy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449600"/>
        </p:xfrm>
        <a:graphic>
          <a:graphicData uri="http://schemas.openxmlformats.org/drawingml/2006/table">
            <a:tbl>
              <a:tblPr/>
              <a:tblGrid>
                <a:gridCol w="3106800"/>
                <a:gridCol w="1079280"/>
                <a:gridCol w="936720"/>
                <a:gridCol w="31068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 </a:t>
                      </a: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produc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audien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o leads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y 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port needed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who could help perhaps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Small information not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on market location, date and Kg pric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 secretari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fore next f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om imGoats project staff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Radio information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tor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fore next f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vets to inform IP about nr of anim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 parav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fore next f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etings with paravets and tra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s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fore next f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dience (Paravet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68360" y="1413000"/>
          <a:ext cx="8229600" cy="5303880"/>
        </p:xfrm>
        <a:graphic>
          <a:graphicData uri="http://schemas.openxmlformats.org/drawingml/2006/table">
            <a:tbl>
              <a:tblPr/>
              <a:tblGrid>
                <a:gridCol w="3105000"/>
                <a:gridCol w="1081080"/>
                <a:gridCol w="936720"/>
                <a:gridCol w="31068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 </a:t>
                      </a: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produc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audien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o leads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y 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port needed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who could help perhaps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vet refresher trai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Octo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E: Additional modules need to be developed. (see producer slid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Visual materials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laminated shee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 the same topics as broch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kia /Amo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Octo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:  graphic designer, art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8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tension officer vis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jesso /Faust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go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 on nr of animals for fairs to IP secr &amp; interact with commun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 parav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fore each fa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exchange visits: in Inhambane other outside provin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ss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st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 Au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nd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 O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eting SDAE and paravets on a monthly basi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sse to support 1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st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 Jul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Radio (Availability of inpu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ber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Aug, Oct and D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torino to facilitate broadc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eting buyers parav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fore next f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dience (retailer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4572000"/>
        </p:xfrm>
        <a:graphic>
          <a:graphicData uri="http://schemas.openxmlformats.org/drawingml/2006/table">
            <a:tbl>
              <a:tblPr/>
              <a:tblGrid>
                <a:gridCol w="3106800"/>
                <a:gridCol w="1079280"/>
                <a:gridCol w="936720"/>
                <a:gridCol w="31068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 </a:t>
                      </a: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produc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audien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o leads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y 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port needed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who could help perhaps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sits of extension offic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ustino/Amo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th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hange visits with retailer in Mabo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gu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ling of products at fai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ai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ery f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 secretariat to inform  retaii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3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0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dience (Slaughterhous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4664160"/>
        </p:xfrm>
        <a:graphic>
          <a:graphicData uri="http://schemas.openxmlformats.org/drawingml/2006/table">
            <a:tbl>
              <a:tblPr/>
              <a:tblGrid>
                <a:gridCol w="3106800"/>
                <a:gridCol w="1079280"/>
                <a:gridCol w="936720"/>
                <a:gridCol w="31068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 </a:t>
                      </a: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produc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audien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o leads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y 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port needed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who could help perhaps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ite to I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fore end of Jul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eting buyers-parav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ss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fore next f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3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3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3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dience (Prov. Livestock services - SPP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600" cy="4768920"/>
        </p:xfrm>
        <a:graphic>
          <a:graphicData uri="http://schemas.openxmlformats.org/drawingml/2006/table">
            <a:tbl>
              <a:tblPr/>
              <a:tblGrid>
                <a:gridCol w="3106800"/>
                <a:gridCol w="1079280"/>
                <a:gridCol w="936720"/>
                <a:gridCol w="31068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 </a:t>
                      </a: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produc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audien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o leads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y 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port needed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who could help perhaps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P (Dr. Vicente) to visit commun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bert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BC, ideally Au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lm (to be discuss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ber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d O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lm available and afford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aring reports, presentation, brochure, success sto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k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go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te in IP meet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 secretari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go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2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3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dience (district authorities - SDA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8229600" cy="5159520"/>
        </p:xfrm>
        <a:graphic>
          <a:graphicData uri="http://schemas.openxmlformats.org/drawingml/2006/table">
            <a:tbl>
              <a:tblPr/>
              <a:tblGrid>
                <a:gridCol w="3106800"/>
                <a:gridCol w="1079280"/>
                <a:gridCol w="936720"/>
                <a:gridCol w="31068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 </a:t>
                      </a: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produc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audien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o leads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y 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port needed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who could help perhaps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thly meeting with parav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sse to support 1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st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 Jul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sit to model farm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D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go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tion in fairs – inspection, transport licen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D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 every f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zing areas: visit and mark pasture area in each community  (cadast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sse/SDA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st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visit before end of Ju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E will need to support with trans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are work plan of activities and repo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th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 information note on market location, date and Kg pric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 secretari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fore next f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om imGoats project staff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2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dience (district administratio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4572000"/>
        </p:xfrm>
        <a:graphic>
          <a:graphicData uri="http://schemas.openxmlformats.org/drawingml/2006/table">
            <a:tbl>
              <a:tblPr/>
              <a:tblGrid>
                <a:gridCol w="3106800"/>
                <a:gridCol w="1079280"/>
                <a:gridCol w="936720"/>
                <a:gridCol w="31068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 </a:t>
                      </a: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produc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audien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o leads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y 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port needed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who could help perhaps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ular meetings to discuss grazing areas and w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ber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t and D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sit to commun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 secretari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gu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E to provide trans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3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0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5T10:11:57Z</dcterms:created>
  <dc:creator>eleborgne</dc:creator>
  <dc:description/>
  <dc:language>en-US</dc:language>
  <cp:lastModifiedBy>Hendrickx, Saskia (ILRI)</cp:lastModifiedBy>
  <dcterms:modified xsi:type="dcterms:W3CDTF">2012-07-06T06:56:20Z</dcterms:modified>
  <cp:revision>22</cp:revision>
  <dc:subject/>
  <dc:title>IM Goats action plan July 2012</dc:title>
</cp:coreProperties>
</file>